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7"/>
          </p:nvPr>
        </p:nvSpPr>
        <p:spPr>
          <a:xfrm>
            <a:off x="384804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14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74CEF-E513-47DF-9EFA-9CDCBEC9F2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xi Sans"/>
              </a:rPr>
              <a:t>fkdvh flags are based on useinfo-fl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xi Sans"/>
              </a:rPr>
              <a:t>Rejected when fkdvh=5-6 means approved when fkdvh=0-4. In practice this means utilizing useinfo(2-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xi Sans"/>
              </a:rPr>
              <a:t>We will probably analyze all stations values. Would we do some general QC of the precipitation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92088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6DF2-E763-4C94-9A77-E0BD94C3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1561-F8A8-46A1-B606-1C90F51A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A381-035C-4E76-A69C-965BE077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FDF7-C5C0-44BF-A262-92BA4846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1D87-1068-4E1E-BD1D-5D95D7AE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A917-ED7F-48DD-A0AD-6B61D81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3285-5595-4ABE-B76D-92D26889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A675-1CD1-4E1C-A15A-37ABCAA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2335-C234-4410-BAF6-FD388E14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FB7D-F0E9-46FA-99A0-AEB8D915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FF2-C552-4322-A57D-8ADA6CF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3C82-D573-4552-974E-5BB7D82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800-0B8B-431C-8F0D-78A7DAC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1FC1-1BA4-47B4-9901-0C07B7E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ABE-908F-472A-ABBC-274EF1BF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CF3E-E353-4E12-A38D-63A946E0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4D1D-F26A-44AB-8CBF-5BE5D43D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5A1E-78BA-4F1B-9AA0-A93824A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05B9-6C2B-4BCF-A6D5-97954510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8234-A03A-465D-B7E6-397CF10A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AB5A-325B-4F26-9E8E-634130BB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DD6A-3666-4AC9-B68B-BBBACD98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DBCF-31A6-4D53-81C2-0A2A426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844D-DD2F-44AD-A71F-14853129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6080"/>
            <a:ext cx="9350640" cy="5638680"/>
            <a:chOff x="-103320" y="1306080"/>
            <a:chExt cx="9350640" cy="5638680"/>
          </a:xfrm>
        </p:grpSpPr>
        <p:sp>
          <p:nvSpPr>
            <p:cNvPr id="1" name=""/>
            <p:cNvSpPr/>
            <p:nvPr/>
          </p:nvSpPr>
          <p:spPr>
            <a:xfrm flipV="1" rot="20820000">
              <a:off x="-22320" y="1637280"/>
              <a:ext cx="27687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60000">
              <a:off x="-36360" y="178668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60000">
              <a:off x="-42840" y="19008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700000">
              <a:off x="-68400" y="2035080"/>
              <a:ext cx="3930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40000">
              <a:off x="-81000" y="221580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80000">
              <a:off x="-103320" y="2415240"/>
              <a:ext cx="485460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0000">
              <a:off x="-145800" y="2687040"/>
              <a:ext cx="5402520" cy="11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0000">
              <a:off x="-155520" y="2955240"/>
              <a:ext cx="5951520" cy="1080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20000">
              <a:off x="-261720" y="325728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0000">
              <a:off x="-339840" y="36320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0000">
              <a:off x="-496800" y="4152600"/>
              <a:ext cx="825480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0000">
              <a:off x="14040" y="4569840"/>
              <a:ext cx="8574120" cy="936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0000">
              <a:off x="2095200" y="464544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9020000">
              <a:off x="4257360" y="487296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0000">
              <a:off x="6432840" y="5561640"/>
              <a:ext cx="3300480" cy="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60000">
              <a:off x="8521920" y="661464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80000">
              <a:off x="-231840" y="37447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00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40000">
              <a:off x="-260280" y="575136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80000">
              <a:off x="-174600" y="62247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0000">
              <a:off x="-341280" y="511344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60000">
              <a:off x="-182520" y="337788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60000">
              <a:off x="128520" y="3089160"/>
              <a:ext cx="91378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40000">
              <a:off x="593640" y="285876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80000">
              <a:off x="134748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20000">
              <a:off x="1672920" y="234144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720000">
              <a:off x="197604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60000">
              <a:off x="2360160" y="2072160"/>
              <a:ext cx="684864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60000">
              <a:off x="2620800" y="19350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40000">
              <a:off x="96984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60000">
              <a:off x="-321840" y="472392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00000">
              <a:off x="-276120" y="42267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4B632-2377-4D40-9DCB-A6381F01C4D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4760" y="1309320"/>
            <a:ext cx="9350280" cy="5638680"/>
            <a:chOff x="-104760" y="1309320"/>
            <a:chExt cx="9350280" cy="5638680"/>
          </a:xfrm>
        </p:grpSpPr>
        <p:sp>
          <p:nvSpPr>
            <p:cNvPr id="258" name=""/>
            <p:cNvSpPr/>
            <p:nvPr/>
          </p:nvSpPr>
          <p:spPr>
            <a:xfrm flipV="1" rot="20820000">
              <a:off x="-23760" y="1640520"/>
              <a:ext cx="2768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60000">
              <a:off x="-38160" y="17899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60000">
              <a:off x="-44280" y="1902960"/>
              <a:ext cx="3565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00000">
              <a:off x="-69840" y="2038320"/>
              <a:ext cx="3930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40000">
              <a:off x="-82440" y="2219040"/>
              <a:ext cx="4397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80000">
              <a:off x="-104760" y="241884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0000">
              <a:off x="-149040" y="2689920"/>
              <a:ext cx="5402520" cy="111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0000">
              <a:off x="-157320" y="2958480"/>
              <a:ext cx="5951520" cy="1080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20000">
              <a:off x="-263160" y="3260520"/>
              <a:ext cx="6681600" cy="936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0000">
              <a:off x="-341280" y="3635280"/>
              <a:ext cx="732132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0000">
              <a:off x="-498600" y="4156200"/>
              <a:ext cx="82551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0000">
              <a:off x="122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0000">
              <a:off x="2091960" y="4649040"/>
              <a:ext cx="7321680" cy="972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020000">
              <a:off x="4254120" y="4876200"/>
              <a:ext cx="5676840" cy="936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0000">
              <a:off x="6432120" y="5564880"/>
              <a:ext cx="329976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60000">
              <a:off x="8520480" y="661788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">
              <a:off x="-233280" y="3747600"/>
              <a:ext cx="959796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0000">
              <a:off x="-316080" y="5392800"/>
              <a:ext cx="657576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40000">
              <a:off x="-262080" y="5754600"/>
              <a:ext cx="4451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80000">
              <a:off x="-176040" y="6227280"/>
              <a:ext cx="2222280" cy="972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0000">
              <a:off x="-344520" y="5116680"/>
              <a:ext cx="869472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0000">
              <a:off x="-184320" y="3381120"/>
              <a:ext cx="9550440" cy="936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60000">
              <a:off x="127080" y="309240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40000">
              <a:off x="592200" y="2862000"/>
              <a:ext cx="8691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000">
              <a:off x="1344240" y="2514240"/>
              <a:ext cx="789948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20000">
              <a:off x="1671120" y="2344680"/>
              <a:ext cx="755496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20000">
              <a:off x="1974600" y="2188800"/>
              <a:ext cx="723420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60000">
              <a:off x="2358720" y="2076120"/>
              <a:ext cx="6848280" cy="936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60000">
              <a:off x="2619360" y="193824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40000">
              <a:off x="968400" y="2673720"/>
              <a:ext cx="8261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60000">
              <a:off x="-325080" y="4727160"/>
              <a:ext cx="976320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00000">
              <a:off x="-277920" y="4230000"/>
              <a:ext cx="969012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3240" y="5335560"/>
              <a:ext cx="266760" cy="152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920" y="580068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800" y="42274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0040" y="48862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9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9080" y="4510080"/>
              <a:ext cx="2397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40" y="4219560"/>
              <a:ext cx="237960" cy="133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9040" y="4197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81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6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1320" y="366228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56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9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32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520" y="2825640"/>
              <a:ext cx="20304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840" y="3432240"/>
              <a:ext cx="21096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36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96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480" y="3456000"/>
              <a:ext cx="22032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9280" y="3672000"/>
              <a:ext cx="21240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6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9200" y="2840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40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720" y="2855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8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360" y="36910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6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1000" y="39276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7040" y="3201840"/>
              <a:ext cx="222120" cy="114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560" y="27018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7080" y="23940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9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104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8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2403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3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3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680" y="26989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6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51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1280" y="27036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5040" y="2556000"/>
              <a:ext cx="20304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640" y="5802480"/>
              <a:ext cx="31104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48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7000" y="49086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440" y="4554360"/>
              <a:ext cx="247320" cy="141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4238640"/>
              <a:ext cx="247680" cy="133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800"/>
              <a:ext cx="23832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680" y="5337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880" y="36576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96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500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80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400" cy="810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960" y="227484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52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960" y="22734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8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2200" y="205416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680" y="18604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840" y="2174760"/>
              <a:ext cx="17748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400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4240" y="2041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480"/>
              <a:ext cx="17640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960" y="2263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400" y="2041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60" y="21589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6240" y="1835280"/>
              <a:ext cx="177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520" y="2170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924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800" y="2155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64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800" y="17636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7080" y="166212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42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632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1040" y="22701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560" y="16858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3320" y="167004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7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1040" y="19540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712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60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880" y="20574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32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840" y="17510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480" y="184788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5040" y="2155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0280" y="1944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600" y="1746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720" y="213516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680" y="1838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720" y="1943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40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6120" y="18543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680" y="17827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56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4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880" y="1959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6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2280"/>
              <a:ext cx="16056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7240" y="16113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440"/>
              <a:ext cx="160200" cy="601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720" y="159228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920" y="225756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84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624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680" y="19270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6160" y="14446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68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76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92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760"/>
              <a:ext cx="1335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4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440"/>
              <a:ext cx="150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760" y="1530360"/>
              <a:ext cx="14112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960"/>
              <a:ext cx="16056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400" y="63961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840" y="583092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92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524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640" y="536400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520" y="4221000"/>
              <a:ext cx="239760" cy="133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68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60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40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024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50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76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760"/>
              <a:ext cx="19548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960"/>
              <a:ext cx="31140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8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9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8000" y="64310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960" y="539424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60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9160"/>
              <a:ext cx="26532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4564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50000"/>
              <a:ext cx="266760" cy="150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960" y="45734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4040" y="4246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8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880"/>
              <a:ext cx="212760" cy="115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680"/>
              <a:ext cx="22248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88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480" y="4257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4760" y="4551480"/>
              <a:ext cx="23796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5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5840" y="22827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560" y="636912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FDEDA-EB9B-4AAB-BA2F-749B8ECE46A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9382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Thoughts about flags in QC2</a:t>
            </a:r>
            <a:br>
              <a:rPr sz="3600"/>
            </a:br>
            <a:r>
              <a:rPr b="0" lang="en-GB" sz="2800" spc="-1" strike="noStrike">
                <a:solidFill>
                  <a:srgbClr val="dfdef6"/>
                </a:solidFill>
                <a:latin typeface="Arial"/>
              </a:rPr>
              <a:t>Redistribution of accumulated </a:t>
            </a:r>
            <a:br>
              <a:rPr sz="2800"/>
            </a:br>
            <a:r>
              <a:rPr b="0" lang="en-GB" sz="2800" spc="-1" strike="noStrike">
                <a:solidFill>
                  <a:srgbClr val="dfdef6"/>
                </a:solidFill>
                <a:latin typeface="Arial"/>
              </a:rPr>
              <a:t>precipitation values,</a:t>
            </a:r>
            <a:br>
              <a:rPr sz="2800"/>
            </a:br>
            <a:r>
              <a:rPr b="0" lang="en-GB" sz="2800" spc="-1" strike="noStrike">
                <a:solidFill>
                  <a:srgbClr val="dfdef6"/>
                </a:solidFill>
                <a:latin typeface="Arial"/>
              </a:rPr>
              <a:t>and generally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2411280" y="5589360"/>
            <a:ext cx="432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om Lars, 21.11.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QC2 flags</a:t>
            </a: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 in controlinfo(4)=fnum 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, found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higher than high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lower than low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higher than highest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rolled. Deviation between observed value and model lower than lowest tes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num=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 value is missing or rejected. Interpolated or corrected with model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num=7-A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imilar to fnum=2-5, except for QC2 interpolation instead of numerical model value (ne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QC2 flags</a:t>
            </a: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 in controlinfo(8)=fw 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w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w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led, found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Slightly suspect value, not corrected (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Highly suspect value, not corrected (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Erronous value, not corrected (n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ntrolled. Erronous value, corrected automatically (n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 2-5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orresponding to    fnum=2-5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w=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Outlier, rejected (n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QC2 flags</a:t>
            </a: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 in controlinfo(12)=fd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considered as accumulated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rmal observation, value not accum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servation in period of accu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bnormal observation, maybe an accumulated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d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distribution by values of numerical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d=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distribution by values of QC2 method (chang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d=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distribution, method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SzPct val="11726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fd=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Redistribution, method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Values from QC2 method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lues in every station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ing values not used in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lculations may be affected by QC1 fl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ict criteria for approvals: fkdvh=0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strict criteria (for rejections): fkdvh=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hqc-fl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liers must be avo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5 x IQR from neighbours (conv. no. of st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olinfo(8)=fw=8 (rejected), useinfo(3)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Values in accumulation period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om QC1: c.info, u.info or kdvh fla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info(12)=fd=2 from accumulating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Quality flags from existing neighbour obser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ding neighbour 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rther analysis before calcul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w- or fnum-flags (expanded, changed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om QC2: after re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d=7 (changed) for accumulating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y quality flag based on variance of the precipitation fiel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SzPct val="136783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w-flag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fdef6"/>
                </a:solidFill>
                <a:latin typeface="Arial"/>
              </a:rPr>
              <a:t>Change of c.info and u.info after QC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98328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olinf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.info(6)=fmis=1 (miss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.info(0)=5 (QC1+QC2), 6 (QC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(u.info(2)=0-3 for neighbours, especially u.info(2)=0 will be importa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.info(3)=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.info(4)=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